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D5E1-6D89-40F9-8BC3-17CD25FEC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4C71-2297-44EF-B23B-CE83DC4C8D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7F28-B9AF-46EC-ADB2-5CC4884143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FC82-60F1-4DE8-A0AB-902CFA902C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B586-573E-43C9-9E57-DC94387244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7BA6-189A-4861-BB38-CEFE510763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01AD-C6E8-4734-9068-4F7295F23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B9DE-70FC-42A4-BDB9-7093D637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4940-0633-42EF-8C96-9C1B6734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FE53-7D70-438E-8003-44EDDC3C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59C2-B513-4845-9EF6-48ABBFE4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81C6-84B5-40C9-A80C-756F7B7A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2FD8-2BE6-4FF9-AD49-38D15F27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FA6C-56CC-4363-BA07-3E839F33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535D-3D10-4004-8198-D95857BA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4418-66E8-47F5-BCE8-9E04D468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C133-FA84-45E0-B013-8B0A92DC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9E49-9412-4F9E-8567-91BD458D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483C-2092-43E4-B605-5AFA0B78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44F7-8617-4DD5-A185-EE73A962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28A6-2FD5-48EF-8832-3563E246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4F99-239B-48A5-B03D-EE70EFB1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4B2B-9EAB-4BAC-A305-061D0704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37A4-533F-4601-998F-D6635FDE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A7B1-8B65-4F3C-AD4F-3675B1F8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504A-3AB2-4DD8-886C-6396E8BD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9165-589A-4813-9C56-34AC00FE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31CE-768B-4B54-BBC6-762388C0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11A7-7F02-433E-990C-4A934278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9841-89D9-4461-BBB9-1B70F972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4E4D-F8DF-443E-AAFF-9BFD3BFEE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8AB7-9516-4A00-84A5-78CBB59544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5 Cs of Credi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ING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consult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Ready at the Sound of the B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320" y="17780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1. Name the 5 Cs of Credit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381636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2. Why do creditors use the 5 Cs of Credit?</a:t>
            </a:r>
            <a:br>
              <a:rPr sz="32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2548080" y="2925720"/>
            <a:ext cx="4047840" cy="31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1438200"/>
            <a:ext cx="87627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3. What helps determine your CHARACTER as a borrower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3154320" y="3281400"/>
            <a:ext cx="2362320" cy="35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4. What can a borrower use besides salary to help secure a loan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01004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5. Why is Capacity an important “C” to a creditor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2762280" y="335268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11-17T18:51:08Z</dcterms:modified>
  <cp:revision>138</cp:revision>
  <dc:subject/>
  <dc:title>D/O: TO EXPLAIN AND IDENTIFY PROBLEMS OF ECONOMICS</dc:title>
</cp:coreProperties>
</file>